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117-42BF-4FAE-A45F-FC4AFEB3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CA0-F00E-4907-A9C1-014A4D8D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224-A319-44D0-93BF-DE4101E3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3935-9FA8-4C25-8B42-C2ED5BA5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C40-6880-4043-A77D-40388332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6264-34CA-4ADA-B2CD-438FD75C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1B9-1BA9-4CA3-AF0B-B23F5A54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62B2-EB6A-41E5-9936-5D681215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338-6D8A-463A-A450-C03B8F62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EEC0-9BF6-4BFF-ABC7-F27F51A4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899-177C-4843-AF24-9591FE97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55C-590F-409C-A047-964ECD44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ED46-9390-4AC9-B0AE-6B939B51C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19"/>
                </a:solidFill>
                <a:latin typeface="Comic Sans MS"/>
              </a:rPr>
              <a:t>Aim:  How did Nelson Mandela shape the future of South Africa?</a:t>
            </a:r>
            <a:br>
              <a:rPr sz="3200"/>
            </a:br>
            <a:r>
              <a:rPr b="0" lang="en-US" sz="3200" spc="-1" strike="noStrike">
                <a:solidFill>
                  <a:srgbClr val="191919"/>
                </a:solidFill>
                <a:latin typeface="Comic Sans MS"/>
              </a:rPr>
              <a:t>L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919"/>
                </a:solidFill>
                <a:latin typeface="Comic Sans MS"/>
              </a:rPr>
              <a:t>Do Now:  Document Analy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2743200"/>
            <a:ext cx="89917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outh African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tish colonial rule led to racial segregation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910 gained self rule from Brit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 1948  The National Party came into power in South Africa.  They instituted the policy of apartheid. (racial segreg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3505320" cy="2221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5456160" y="3505320"/>
            <a:ext cx="2725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46479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959 set up homelands:  certain areas where blacks could l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)Blacks protested the treatment by organizing the African National Congress(ANC)They organized strikes and boycotts against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)A major ANC leader named Nelson Mandela was imprisoned in 1962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)Blacks continued to protest and many were killed in a variety of prot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1989 FW De Clerk was elected.  He transformed South Africa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easing Nelson Mandela in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ding apartheid la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ganized first multiracial election in 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79960" cy="3416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5715000" y="0"/>
            <a:ext cx="3200400" cy="428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3"/>
          <a:stretch/>
        </p:blipFill>
        <p:spPr>
          <a:xfrm>
            <a:off x="3276720" y="3124080"/>
            <a:ext cx="3541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lson Mandela Activity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:  Analyze the four sources and log your summary in the ch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:  Using information from the notes and documents create an interview script with your group to be performed at the end of the perio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21:35:13Z</dcterms:created>
  <dc:creator>NYCDOE</dc:creator>
  <dc:description/>
  <dc:language>en-US</dc:language>
  <cp:lastModifiedBy>NYCDOE</cp:lastModifiedBy>
  <dcterms:modified xsi:type="dcterms:W3CDTF">2012-02-02T14:24:30Z</dcterms:modified>
  <cp:revision>2</cp:revision>
  <dc:subject/>
  <dc:title>Aim:  How did Nelson Mandela shape the future of South Africa? L33</dc:title>
</cp:coreProperties>
</file>